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517-AB96-42BF-B693-16E16C5A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A26-8DD4-46DC-9A18-59901836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2775C-537C-49C0-9F90-07B25703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4768F-2682-469E-A3C8-6B43D93F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CA7BE-1D81-4106-9788-AC715572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7F8CF-AB15-479B-BB28-4424E53D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1F258-DBF9-4723-9188-74CAD123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70ADD-F458-469D-B908-47A26AEB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48818-2828-4316-9817-B6A6C26C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C80BA-0C6A-4B87-B0B0-1B779707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4E20A-E213-4FA3-A276-7563A1E4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ED561-35AC-4549-B580-C111E3D0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BB1-0A3C-4EB1-9DB6-DFC524D0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E1885-FCDF-4920-880B-E0D7A3D6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92E3D-8873-4B86-9D69-7DFD22BC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2F42B-4A29-4BE6-B5B8-3A4C9673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5158F-6113-4D07-AAEF-90F06E0F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B0B85-764D-4A87-895A-8E96228E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C437B-B297-48AA-A1B6-02E3DB0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E944F-88B2-483C-BB8A-3CC7C573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3A968-A957-46B7-86BE-FD84B4AA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B02DD-86D3-424F-A6FD-F6E042BC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8E12D-9ED3-4907-8512-798D2F50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5A6-1CCC-4B95-9342-9C0350BF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CEEDF-34EE-4822-AC1E-29329CC9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4518D-EBCB-443C-A9E7-05E86D2C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4A1F8-1962-4B70-A82D-540A67FC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AE18A-1268-48EF-989D-FEC03F8B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C30B7-216F-4874-8CCC-56B4B2D9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8B668-1912-4785-9EA9-7D0C7E4B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F48A9-AC37-44FE-B9CD-9D4D1AE0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CD1DE-7792-40B1-8A29-62A3C439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0FA5D-7A5F-43A6-A757-BCDAF5A7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729ED-2065-4362-8FEE-36224198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2725-329E-4BB6-9B48-AEE1D5C8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2C911-8CAD-4875-AB8A-9EC144F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789F8-E8C2-40E1-B013-8327726A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12FF4-C394-4384-9A93-AC5A8B53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5EA2C-9959-40A7-9602-AAF63042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8E67B-7322-470D-B315-C89F7FD1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BA5C9-35FE-4358-BA14-05EB5870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50AE8-9AEF-441B-AB43-04C2A632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587DE-D994-4CEB-98EE-EF17B7A0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D09C5-D6B8-4D90-9B61-E986D427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C948E-EDE7-4217-B912-723ECCDC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815C-00D1-4617-BF65-FD7C3B39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C9BEE-705E-47F0-B15D-1B17BE8F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DC8AB-5E7E-41E2-A310-15B2619F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67E85-A637-4A28-95FB-058F559F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36ED6-1C86-4BE0-9B51-3E9242DF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66725-43A6-4F20-8818-CE87BF7D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021F-72FD-4982-A2F9-A7AC9159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2E30-D429-4891-B548-4AEFC574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277C-C200-4EED-A74C-0440666F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48B1-23B0-456D-81F6-092A7C6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DF4A-C04B-4E14-8170-38090CE7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FED-71EA-48ED-9B48-2AEE4B92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2F7A-7D1C-41AF-9932-9603418E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BB80-7243-4593-BEB5-DC2B2852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F6E6-85C2-4108-8A6C-81F06DC2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34C9-719A-4277-9A1B-5CEAE355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F858-6E56-4921-9BB2-9BFE63DD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C730-8FB6-4D60-940F-651D5BCA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D62E-75F7-470F-A7FE-54AF2A39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D151-4CF3-49E0-933E-882580E9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CBC1-FE0A-486D-876E-0B723049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05AD-7558-410D-9722-2C70C254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A66-F9C5-457B-801A-66591D9E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5132-09D4-48D7-951A-F9617F65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0AB0-9E97-4EB5-8FB0-41A7445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C8B4F-6F35-4DD2-B43B-00C7A8C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CF08-EDDC-4DDD-9AA9-28487CD6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EFAA-4FD7-4A93-AA9C-8F159DC9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8928-EC5C-43E6-9BF6-8BD2F281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3568-0233-4796-8621-02544EED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E6347-783A-4A57-8544-C2D11F0A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F034E-EBA2-446D-90A1-0AAAFDCC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A306-8848-4F5F-BE99-54864193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0A5-C4BB-45A7-95DA-5EC2A516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11F1-B670-43D0-A57A-843027CA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D7A2-BC28-401C-9B5F-29045B73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CCEC-C57C-471C-8A74-514F2EDA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D5126-004C-4F3D-8822-C125418C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40198-A52F-424D-8015-05741173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54C2-D194-4B03-A05F-D2D7A8C5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B751-2A42-4C78-BC00-329B7E9E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413D8-4827-458F-A869-2AA23969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F3C04-CBE3-4E05-8DC6-41A1FA81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13CCE-74D5-4E54-983E-CFD19548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62C-43F1-420F-9179-544537DA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C74DC-A502-4A0E-B21A-2EBCB85B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1938D-15FC-42AE-BFF0-E96549C0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9C2BC-DDB0-4463-8825-18FAE29D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CE8E6-9AB5-4EB1-A132-21C94A2C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3048-C2A3-4991-AF6C-57AEE223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C92D6-4A19-4169-B2C5-E1F7818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869EC-6185-4C18-9802-7E5F5A15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E7C03-858D-4AD8-93FA-98206E71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3B976-5C3E-4F55-B281-716C9C50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9D88D-0D99-446B-BE26-4A5140AD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833-49D3-4DE9-BD5E-FD320BD7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02503-12E8-46ED-936E-A7825390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3B861-F235-4D18-B934-B53F59B3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44D02-CF4A-4DD7-809C-71026BD6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3171C-3E4F-4DF1-998C-AA0E2860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08145-2A1F-4C3B-B77F-45576C06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EAA33-1577-4811-9267-29C52DDD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6D393-8439-442C-B9B8-D285B935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33D1B-8132-4B17-AF40-F67E4655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F4257-1D7E-4478-8BB8-8D90DF6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F6FBC-527D-45BE-B927-2B3C115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F49-B86F-479D-9B68-782BD4B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9FFF2-3C53-4918-B287-975995E8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4776C-F01B-480F-B5AE-286A09EF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C888F-AF2A-4177-897B-043B23D1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3C1ED-E372-40C4-99F2-85BA2C88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E54C9-713E-457A-9E6A-938BEFFE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F968-17B2-4B67-887C-06C8FC87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5ACD5-F450-44B7-A243-CECE2B6F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E8936-86C1-4F62-A16E-607844D9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E8D3-8BFD-410F-B717-D687210A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E390-AFE9-4C84-BD9B-5E16752C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96B-6008-43F9-8E96-17F7EB7A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A4D08-446F-4A06-8E67-99547EF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7EBA0-88F7-451F-BD12-828BD3D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97550-F209-41D4-9867-7344E24C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99294-49A3-44FA-BDF1-B543E9D6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68BB0-8A4D-48F6-B4B5-EF4B1198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C5C0C-32BD-429E-891B-E9D5ACDE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C48D0-FB65-4600-9B05-24C31F8D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BC04-3BDC-416D-9871-E97BD267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67066-7D38-4120-BA73-83E275F5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E0EE9-DDA7-48AE-95F2-C011A9B7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51B-9E5D-428F-8691-5C3C9A97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8E5A2-5EC0-49CA-9727-F1D6D8D6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A9AED-DE0F-4F16-9CEA-2D155EDA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97573-65FF-4B99-9D3F-0654863B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113EE-5992-40D6-A7BB-B10BCE2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043D2-2758-46A2-B8CD-244502F1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6864B-D015-4759-932E-58957C00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E2F88-ACAF-42F9-8DF8-6F755B5C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F0BCA-5D24-4291-B272-FEB48817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BE834-7EB0-4F4C-9C3D-0AD4E505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7E96B-A124-4A0B-854C-C6C27C15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9DA4-B654-495E-A35F-92E5AF8936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FB97-7911-48F8-BC9E-66BCF16D7C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949A-6867-4403-9343-9FA86B4853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3D75-8E03-4159-AE11-73FA896F7B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E0A0-23DD-4ED6-8311-9ED1A5437AF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B4FE-D931-4477-8C38-D42936F3AC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4456-C020-4B11-9BCC-03948A2913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53EA-1E46-4BB5-95B1-584C9CC68A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3BCC-D97D-4F3D-9059-01E3E8E492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C40B-415F-40A4-B8EE-6F2F04A0C4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113F-5EF0-40D1-B603-9890B3D525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F71F-CB8A-4313-A14B-D048BA4F20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47 V srdci nádej, tú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a v zrak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rdci nádej, túžba v zra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mnej noci sveta bi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pasiteľa na obla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aká viery smelej vzl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každom bôli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každej ties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neho zrak upier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ti cestu tŕním klies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za ním í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vpred neváh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pusť márne sveta túžb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mu veriť neprestaň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 nemu vstúp do vernej služb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zmi smelo Ducha zbra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ho láskou vyzbroj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ám nad sebou zvíťazí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ilou viery napln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priateľa poraz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er len Pánu Ježiš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ťa verne mil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nebesiach on domov nov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 teba už hot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jav mu všetky svoje pria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rdca svojho každý t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za všetky požehna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jemu vrúcnu 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u vzda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58:42Z</dcterms:modified>
  <cp:revision>23</cp:revision>
  <dc:subject/>
  <dc:title>Je veľký náš Pán, on slávy je Kráľ Nech do všetkých strán  spev vrúcnych znie chvál.</dc:title>
</cp:coreProperties>
</file>